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AEA-E6ED-4708-B0E7-D30ED5F3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5E2-5E40-4AA4-8DA8-623CF217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5BD-8D12-46A0-A3C5-903F20D6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811-CA07-41BF-A9A3-6CAEBFE9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300-6101-4D9E-88CF-393FCFC9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7D9-B04A-491C-B32B-F240230F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512-B5DA-4092-9255-928B0E35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7D6-BFE3-4D9A-8744-CAED2CB0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8A6-A793-4659-96F1-668B2040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9B0A-2797-4D75-81E1-1F1A0829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15D-FAA9-43C6-9F6C-D49C658A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B98-2518-48B3-B72A-D2A77B20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ADEA-4FC6-47F7-8C4F-1384586A0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delsjourney.com/images/close-ups/us/misc/survivor/Survivor_logo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pn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b37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2543040" cy="1903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72200" y="2438280"/>
            <a:ext cx="2543040" cy="1903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24080" y="4876920"/>
            <a:ext cx="2514600" cy="1743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380880"/>
            <a:ext cx="2733840" cy="1724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562720" y="1447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1676520" y="39625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 rot="1174800">
            <a:off x="1828440" y="1523880"/>
            <a:ext cx="1905120" cy="180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 rot="20493600">
            <a:off x="5160960" y="3838680"/>
            <a:ext cx="2438280" cy="1623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3048120" y="2362320"/>
            <a:ext cx="2819160" cy="2109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228600" y="4800600"/>
            <a:ext cx="165276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7238880" y="4714920"/>
            <a:ext cx="1714680" cy="2143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304920" y="304920"/>
            <a:ext cx="1714320" cy="2143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4"/>
          <a:stretch/>
        </p:blipFill>
        <p:spPr>
          <a:xfrm>
            <a:off x="7086600" y="380880"/>
            <a:ext cx="1652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1:18:52Z</dcterms:created>
  <dc:creator>Loran Bowers</dc:creator>
  <dc:description/>
  <dc:language>en-US</dc:language>
  <cp:lastModifiedBy>Loran Bowers</cp:lastModifiedBy>
  <dcterms:modified xsi:type="dcterms:W3CDTF">2008-05-01T02:57:18Z</dcterms:modified>
  <cp:revision>3</cp:revision>
  <dc:subject/>
  <dc:title>Slide 1</dc:title>
</cp:coreProperties>
</file>